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7"/>
          </p:nvPr>
        </p:nvSpPr>
        <p:spPr>
          <a:xfrm>
            <a:off x="384804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14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8"/>
          </p:nvPr>
        </p:nvSpPr>
        <p:spPr>
          <a:xfrm>
            <a:off x="0" y="940896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Num" idx="9"/>
          </p:nvPr>
        </p:nvSpPr>
        <p:spPr>
          <a:xfrm>
            <a:off x="3848040" y="940896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4D117-AFAC-4AC7-8AC5-EBDB594961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xi Sans"/>
              </a:rPr>
              <a:t>fkdvh flags are based on useinfo-fla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xi Sans"/>
              </a:rPr>
              <a:t>Rejected when fkdvh=5-6 means approved when fkdvh=0-4. In practice this means utilizing useinfo(2-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xi Sans"/>
              </a:rPr>
              <a:t>We will probably analyze all stations values. Would we do some general QC of the precipitation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5253-58CC-4ABD-9E66-793CE4CD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683F-63D5-4F62-85D8-B0442194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5C10-3BF6-4F86-AD90-1493CDA7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55BC-1C69-431A-A4C6-76C8BC82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DE93-D1AA-40F7-8887-6A7B07E2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969-E659-4A99-82CC-7E307E84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C9F5-E5E5-4A4B-8767-166B4F0F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6B05-76C8-4760-9400-C450200D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9930-F234-44C5-9CAC-A0CF0CAE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1583-148E-45F7-9B56-17F7C4BA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D378-35A0-4388-8D13-105A47AC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21D9-9EF1-489B-9CD6-990E6E81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0B40-0C09-489B-A113-B23839C3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5D73-E52D-41FF-A9AE-C0223ACF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37C3-A61B-496D-AFCC-C8DF1CE6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2FA1-114A-401F-8090-2C7B8A62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1B93-FBD4-4881-932A-4B7D9610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F0EF-6BC7-430A-ADF7-4EAFA8C4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8D9A-27F0-4B34-9023-DCD962BB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61F8-450D-481D-B4CD-EEC71045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CD22-0C90-4C2A-97E7-28870173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EDAF-826B-4A02-ADFE-C629B835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44AF-CF58-4E74-94B1-8D1BEAB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6384-8E1A-4A46-AE93-C14A7EA7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6080"/>
            <a:ext cx="9350640" cy="5638680"/>
            <a:chOff x="-103320" y="1306080"/>
            <a:chExt cx="9350640" cy="5638680"/>
          </a:xfrm>
        </p:grpSpPr>
        <p:sp>
          <p:nvSpPr>
            <p:cNvPr id="1" name=""/>
            <p:cNvSpPr/>
            <p:nvPr/>
          </p:nvSpPr>
          <p:spPr>
            <a:xfrm flipV="1" rot="20820000">
              <a:off x="-22320" y="1637280"/>
              <a:ext cx="2768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60000">
              <a:off x="-36360" y="178668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60000">
              <a:off x="-42840" y="19008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700000">
              <a:off x="-68400" y="2035080"/>
              <a:ext cx="3930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40000">
              <a:off x="-81000" y="221580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80000">
              <a:off x="-103320" y="2415240"/>
              <a:ext cx="485460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0000">
              <a:off x="-145800" y="2687040"/>
              <a:ext cx="5402520" cy="11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0000">
              <a:off x="-155520" y="2955240"/>
              <a:ext cx="5951520" cy="1080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20000">
              <a:off x="-261720" y="325728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0000">
              <a:off x="-339840" y="36320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0000">
              <a:off x="-496800" y="4152600"/>
              <a:ext cx="825480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0000">
              <a:off x="14040" y="456984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0000">
              <a:off x="2095200" y="46454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9020000">
              <a:off x="4257360" y="487296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0000">
              <a:off x="6432840" y="5561640"/>
              <a:ext cx="3300480" cy="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60000">
              <a:off x="8521920" y="661464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-231840" y="37447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00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40000">
              <a:off x="-260280" y="575136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80000">
              <a:off x="-174600" y="62247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0000">
              <a:off x="-341280" y="511344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60000">
              <a:off x="-182520" y="337788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60000">
              <a:off x="128520" y="3089160"/>
              <a:ext cx="91378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40000">
              <a:off x="593640" y="285876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80000">
              <a:off x="134748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20000">
              <a:off x="1672920" y="234144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720000">
              <a:off x="197604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60000">
              <a:off x="2360160" y="2072160"/>
              <a:ext cx="6848640" cy="100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60000">
              <a:off x="2620800" y="19350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40000">
              <a:off x="96984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60000">
              <a:off x="-321840" y="472392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200000">
              <a:off x="-276120" y="422676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DA54D0-5991-4BAA-8119-9647207891C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4760" y="1309320"/>
            <a:ext cx="9350280" cy="5638680"/>
            <a:chOff x="-104760" y="1309320"/>
            <a:chExt cx="9350280" cy="5638680"/>
          </a:xfrm>
        </p:grpSpPr>
        <p:sp>
          <p:nvSpPr>
            <p:cNvPr id="258" name=""/>
            <p:cNvSpPr/>
            <p:nvPr/>
          </p:nvSpPr>
          <p:spPr>
            <a:xfrm flipV="1" rot="20820000">
              <a:off x="-23760" y="164052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60000">
              <a:off x="-38160" y="17899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60000">
              <a:off x="-44280" y="190296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00000">
              <a:off x="-69840" y="203832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40000">
              <a:off x="-82440" y="221904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80000">
              <a:off x="-104760" y="241884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0000">
              <a:off x="-149040" y="2689920"/>
              <a:ext cx="5402520" cy="11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0000">
              <a:off x="-157320" y="2958480"/>
              <a:ext cx="5951520" cy="1080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20000">
              <a:off x="-263160" y="326052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0000">
              <a:off x="-341280" y="363528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0000">
              <a:off x="-498600" y="415620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0000">
              <a:off x="122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0000">
              <a:off x="2091960" y="4649040"/>
              <a:ext cx="732168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020000">
              <a:off x="4254120" y="487620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0000">
              <a:off x="6432120" y="5564880"/>
              <a:ext cx="329976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60000">
              <a:off x="8520480" y="661788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">
              <a:off x="-233280" y="3747600"/>
              <a:ext cx="959796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0000">
              <a:off x="-316080" y="5392800"/>
              <a:ext cx="657576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40000">
              <a:off x="-262080" y="575460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80000">
              <a:off x="-176040" y="6227280"/>
              <a:ext cx="222228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0000">
              <a:off x="-344520" y="511668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60000">
              <a:off x="-184320" y="338112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60000">
              <a:off x="127080" y="309240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40000">
              <a:off x="592200" y="286200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80000">
              <a:off x="1344240" y="2514240"/>
              <a:ext cx="7899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20000">
              <a:off x="1671120" y="234468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20000">
              <a:off x="1974600" y="218880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60000">
              <a:off x="2358720" y="2076120"/>
              <a:ext cx="684828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60000">
              <a:off x="2619360" y="193824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40000">
              <a:off x="968400" y="2673720"/>
              <a:ext cx="826128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60000">
              <a:off x="-325080" y="472716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00000">
              <a:off x="-277920" y="4230000"/>
              <a:ext cx="9690120" cy="936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240" y="533556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920" y="580068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800" y="42274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40040" y="48862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9080" y="4510080"/>
              <a:ext cx="2397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040" y="421956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9040" y="41972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81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6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1320" y="366228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56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9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32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520" y="2825640"/>
              <a:ext cx="20304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840" y="3432240"/>
              <a:ext cx="21096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36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96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480" y="345600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9280" y="3672000"/>
              <a:ext cx="21240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6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4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3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9200" y="2840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40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720" y="2855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840" y="3021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360" y="36910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6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1000" y="39276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7040" y="320184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560" y="27018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7080" y="23940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9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104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64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8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800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3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360" y="23972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680" y="26989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51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1280" y="27036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5040" y="25560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640" y="5802480"/>
              <a:ext cx="31104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48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7000" y="49086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440" y="455436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400" y="423864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80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680" y="5337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880" y="36576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96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500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8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960" y="227484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52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96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8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2200" y="205416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680" y="18604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840" y="217476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400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4240" y="20415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48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960" y="22636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400" y="2041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760" y="21589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6240" y="183528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520" y="2170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924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800" y="2155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64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800" y="17636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7080" y="16621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42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632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1040" y="22701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560" y="16858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3320" y="16700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7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1040" y="19540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712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60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880" y="20574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32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840" y="17510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480" y="184788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5040" y="21556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0280" y="194472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600" y="17463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720" y="213516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680" y="1838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720" y="1943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40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6120" y="18543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680" y="17827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4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80" y="19591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6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2280"/>
              <a:ext cx="16056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7240" y="16113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44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720" y="159228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920" y="225756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62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680" y="19270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6160" y="144468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68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76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92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76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4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440"/>
              <a:ext cx="150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760" y="153036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960"/>
              <a:ext cx="16056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400" y="63961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840" y="583092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92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524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640" y="5364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520" y="4221000"/>
              <a:ext cx="239760" cy="1335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68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60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40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0240" y="2871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50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76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76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96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8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9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8000" y="64310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960" y="539424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60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916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4564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5000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960" y="45734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4040" y="4246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8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88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680"/>
              <a:ext cx="22248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88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480" y="4257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4760" y="4551480"/>
              <a:ext cx="2379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52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5840" y="22827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560" y="636912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E1CC0-9E78-4484-8933-2C5270AF4D0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9382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Thoughts about flags in QC2</a:t>
            </a:r>
            <a:br>
              <a:rPr sz="3600"/>
            </a:br>
            <a:r>
              <a:rPr b="0" lang="en-GB" sz="2800" spc="-1" strike="noStrike">
                <a:solidFill>
                  <a:srgbClr val="dfdef6"/>
                </a:solidFill>
                <a:latin typeface="Arial"/>
              </a:rPr>
              <a:t>Redistribution of accumulated </a:t>
            </a:r>
            <a:br>
              <a:rPr sz="2800"/>
            </a:br>
            <a:r>
              <a:rPr b="0" lang="en-GB" sz="2800" spc="-1" strike="noStrike">
                <a:solidFill>
                  <a:srgbClr val="dfdef6"/>
                </a:solidFill>
                <a:latin typeface="Arial"/>
              </a:rPr>
              <a:t>precipitation values,</a:t>
            </a:r>
            <a:br>
              <a:rPr sz="2800"/>
            </a:br>
            <a:r>
              <a:rPr b="0" lang="en-GB" sz="2800" spc="-1" strike="noStrike">
                <a:solidFill>
                  <a:srgbClr val="dfdef6"/>
                </a:solidFill>
                <a:latin typeface="Arial"/>
              </a:rPr>
              <a:t>and generally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2411280" y="5589360"/>
            <a:ext cx="4321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om Lars, 21.11.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QC2 flags</a:t>
            </a: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 in controlinfo(4)=fnum 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con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led, found 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led. Deviation between observed value and model higher than high tes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led. Deviation between observed value and model lower than low tes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led. Deviation between observed value and model higher than highest tes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led. Deviation between observed value and model lower than lowest tes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 value is missing or rejected. Interpolated or corrected with model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fnum=7-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imilar to fnum=2-5, except for QC2 interpolation instead of numerical model value (ne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QC2 flags</a:t>
            </a: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 in controlinfo(8)=fw 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w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w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led, found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=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ontrolled. Slightly suspect value, not corrected (chang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ontrolled. Highly suspect value, not corrected (chang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=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ontrolled. Erronous value, not corrected (n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ontrolled. Erronous value, corrected automatically (n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 2-5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orresponding to    fnum=2-5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=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Outlier, rejected (n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QC2 flags</a:t>
            </a: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 in controlinfo(12)=fd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d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considered as accumulated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d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rmal observation, value not accum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d=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servation in period of accu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d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bnormal observation, maybe an accumulated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d=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distribution by values of numerical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d=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Redistribution by values of QC2 method (chang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d=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Redistribution, method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d=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Redistribution, method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Values from QC2 method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lues in every station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ing values not used in calc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lculations may be affected by QC1 fla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ict criteria for approvals: fkdvh=0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strict criteria (for rejections): fkdvh=5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hqc-fl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liers must be avo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5 x IQR from neighbours (conv. no. of st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rolinfo(8)=fw=8 (rejected), useinfo(3)=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Values in accumulation period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om QC1: c.info, u.info or kdvh fla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info(12)=fd=2 from accumulating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Quality flags from existing neighbour observ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ding neighbour 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rther analysis before calcul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w- or fnum-flags (expanded, changed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om QC2: after re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d=7 (changed) for accumulating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y quality flag based on variance of the precipitation fiel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36783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w-flag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Change of c.info and u.info after QC2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69832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rolinf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.info(6)=fmis=1 (miss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.info(0)=5 (QC1+QC2), 6 (QC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(u.info(2)=0-3 for neighbours, especially u.info(2)=0 will be importa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.info(3)=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.info(4)=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